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17F7-5FB4-4D07-A97D-379A60623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8343-6B16-429D-B484-E8C55EDF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C26-6FB4-48C2-B583-45D0E0B7A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0699-EBEF-4C55-8DD3-FF818AC11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5452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4077-6D1F-4926-9905-52C47C8E007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B5AA-D852-411B-A4D4-477DD6B1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03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97A9-2B57-4E1B-A8BA-7CE1733D1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909-D566-409B-BC9D-A76702EE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7CF-2285-4F35-8C01-A123CFEF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090-554F-4A17-8970-A0CBBD0E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9D3-9F11-4C69-A9B0-441C8894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B51B-8B21-4858-938F-CFD7382C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07CA-48C2-45E1-9E07-14737C23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9C5E-2255-47F6-AFD6-DBCCE83B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D54D-2F00-4DF7-A409-CBFA41B8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E15A-A9F5-4E9E-ABD7-F3477DA2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7523-8320-4736-87FA-F76444FF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7657-6AA2-4911-BA63-E19DCF31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2A2-BE2F-47D0-90D4-AFC31DA7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CE33-D28D-4478-8CC8-A379854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BD39-CD8D-4836-AA9E-C8A9204C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FB98-F485-46FD-8FD5-21B2328B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9C2F-B204-4676-A18F-CD350646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264B-526F-4CBB-BCB3-61100584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CA5-ED57-44FC-B283-66716F6D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6EA-2EE4-4689-A5C9-4C34608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C73-2CD7-43E8-81CF-EBAC62E9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B90-E0FA-4173-80AE-2BDA4551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571-5D4E-4D98-AC2C-65E548BE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91A-9FCE-4D38-8742-2F655851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8F2-F96D-4A56-96F9-5DCE536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C124-E87B-48AC-8159-189FE0055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AF0A05C-0B15-4BC6-9E28-4069716D0E7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773C87C-FFD8-44F4-BECB-6F2508B9A25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0" y="493560"/>
            <a:ext cx="9144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086520" y="3505320"/>
            <a:ext cx="275256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rcRect l="28209" t="0" r="0" b="0"/>
          <a:stretch/>
        </p:blipFill>
        <p:spPr>
          <a:xfrm>
            <a:off x="0" y="1066680"/>
            <a:ext cx="9144000" cy="1409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4"/>
          <p:cNvSpPr/>
          <p:nvPr/>
        </p:nvSpPr>
        <p:spPr>
          <a:xfrm>
            <a:off x="0" y="0"/>
            <a:ext cx="914400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BAR_blue.png"/>
          <p:cNvPicPr/>
          <p:nvPr/>
        </p:nvPicPr>
        <p:blipFill>
          <a:blip r:embed="rId4"/>
          <a:stretch/>
        </p:blipFill>
        <p:spPr>
          <a:xfrm>
            <a:off x="0" y="205740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1E52-39D4-4C3D-AB52-BE307CF96A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-1600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9091-384D-420B-B1E8-E9520591202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Mobilização de Recursos, Orçamento e Logís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mostra de Necessidades Orçamentais e Financei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03640" y="1700280"/>
          <a:ext cx="3251520" cy="5056200"/>
        </p:xfrm>
        <a:graphic>
          <a:graphicData uri="http://schemas.openxmlformats.org/drawingml/2006/table">
            <a:tbl>
              <a:tblPr/>
              <a:tblGrid>
                <a:gridCol w="3251520"/>
              </a:tblGrid>
              <a:tr h="76356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voluntários da comun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mota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5224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veículo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ts val="1397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condu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752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gestor de dados do distrito nos distritos afec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s telefones e carreg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755640" y="1628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a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pidemiologista-ch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upervisores no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vestig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estor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erito psicos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ndutor (se utiliz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quip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er anexo no diapositivo seguinte, mas considerar també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usto dos carregamentos dos tele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mpressão de formul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nti-séptico para as mã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Transport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para os supervisores no terreno, investigadores e equipa de investig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áxis (se utiliz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mbustível se forem utilizados veículos próp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Necessidades de Equipamento/Apo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lista de equipament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765000"/>
          <a:ext cx="8785440" cy="5872320"/>
        </p:xfrm>
        <a:graphic>
          <a:graphicData uri="http://schemas.openxmlformats.org/drawingml/2006/table">
            <a:tbl>
              <a:tblPr/>
              <a:tblGrid>
                <a:gridCol w="1970280"/>
                <a:gridCol w="1058760"/>
                <a:gridCol w="824040"/>
                <a:gridCol w="944280"/>
                <a:gridCol w="831960"/>
                <a:gridCol w="703440"/>
                <a:gridCol w="909360"/>
                <a:gridCol w="881280"/>
                <a:gridCol w="662040"/>
              </a:tblGrid>
              <a:tr h="20484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a de Identificação de Cont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equip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demiologista-che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visor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nvestig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dentific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or de D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Transpor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Desinfec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Enter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de Protecção Pesso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vas descartáve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ção Facial (ou ócul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Facial N95/FFP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cirúrgica para o ca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cos de plástico para riscos biológ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8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nologia de In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e Posicionamento Mundi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óveis (com carregament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8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ramentas de Recolha de Dados Electrón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óme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is de Escritó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ulários Apropri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tor/Car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31840" y="1249200"/>
            <a:ext cx="8881920" cy="4950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xemplo de um orçamento para a implementação e gestão da identificação de contactos num distrito af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tent Placeholder 2"/>
          <p:cNvSpPr/>
          <p:nvPr/>
        </p:nvSpPr>
        <p:spPr>
          <a:xfrm>
            <a:off x="395280" y="1557360"/>
            <a:ext cx="88614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necer uma compreensão ampla para a necessidade de uma disponibilidade sustentável de abastecimentos de emergência e apoio logístico às operações de alerta e resposta à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ilhar desafios logísticos práticos, incluindo os encontrados nos países com surtos cor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gerir possíveis soluções para os desafios ident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07880" y="1196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 na resposta a emerg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a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afios d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pções/prop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Resumo da Apresentaçã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119664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bastecimento refere-se à quantidade total de um produto (bem ou serviço) disponível para aquisição a qualquer preço especific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é o processo de planeamento, implementação e controlo de um fluxo de mercadorias e serviç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az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ient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o ponto de origem ao consum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er uma logística eficaz para a criação e procura, o mais rápido possível, dos contributos necessários e assegurar o mais cedo possível os movimentos de peritos, doentes e abastecimentos para os pontos de us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Z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123480"/>
            <a:ext cx="8856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Book Antiqua"/>
              </a:rPr>
              <a:t>Estrutura organizacional das diferentes comissões envolvidas nas actividades de controlo do surto do Éb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75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1800" y="115920"/>
            <a:ext cx="7602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68360" y="1230480"/>
            <a:ext cx="8206920" cy="4627080"/>
            <a:chOff x="468360" y="1230480"/>
            <a:chExt cx="8206920" cy="4627080"/>
          </a:xfrm>
        </p:grpSpPr>
        <p:sp>
          <p:nvSpPr>
            <p:cNvPr id="142" name="Rectangle 2"/>
            <p:cNvSpPr/>
            <p:nvPr/>
          </p:nvSpPr>
          <p:spPr>
            <a:xfrm>
              <a:off x="468360" y="4641120"/>
              <a:ext cx="8206920" cy="121644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Morbilidade e mortalidade reduzi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Resposta ao surto reforçada</a:t>
              </a: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"/>
            <p:cNvSpPr/>
            <p:nvPr/>
          </p:nvSpPr>
          <p:spPr>
            <a:xfrm>
              <a:off x="468360" y="1230480"/>
              <a:ext cx="372276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Equipas de Resposta Ráp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4868280" y="1230480"/>
              <a:ext cx="380700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Logística e abastec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468360" y="3202920"/>
              <a:ext cx="8206920" cy="1217520"/>
            </a:xfrm>
            <a:prstGeom prst="rect">
              <a:avLst/>
            </a:prstGeom>
            <a:solidFill>
              <a:srgbClr val="3366ff">
                <a:alpha val="75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Operações de respo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6"/>
            <p:cNvSpPr/>
            <p:nvPr/>
          </p:nvSpPr>
          <p:spPr>
            <a:xfrm rot="10800000">
              <a:off x="4444920" y="4201560"/>
              <a:ext cx="423360" cy="584280"/>
            </a:xfrm>
            <a:prstGeom prst="upArrow">
              <a:avLst>
                <a:gd name="adj1" fmla="val 50000"/>
                <a:gd name="adj2" fmla="val 4329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0800000">
              <a:off x="2117160" y="282024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 rot="10800000">
              <a:off x="6559560" y="277848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790560"/>
            <a:ext cx="8991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Bookman Old Styl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4320" y="117000"/>
            <a:ext cx="760752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430200" y="936720"/>
            <a:ext cx="8713440" cy="4952520"/>
            <a:chOff x="430200" y="936720"/>
            <a:chExt cx="8713440" cy="4952520"/>
          </a:xfrm>
        </p:grpSpPr>
        <p:sp>
          <p:nvSpPr>
            <p:cNvPr id="152" name="Rectangle 5"/>
            <p:cNvSpPr/>
            <p:nvPr/>
          </p:nvSpPr>
          <p:spPr>
            <a:xfrm>
              <a:off x="430200" y="2499840"/>
              <a:ext cx="3333960" cy="14068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Transporte, segurança e bem-estar do pessoal</a:t>
              </a: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430200" y="936720"/>
              <a:ext cx="3333960" cy="13287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bastecimentos para o alerta e respost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430200" y="4298400"/>
              <a:ext cx="3333960" cy="1590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poio à logística no terren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4521600" y="936720"/>
              <a:ext cx="4622040" cy="1191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bastecimentos de laboratório, medicamentos, kits de emergência, meios de transporte, materiais de escritóri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4521600" y="2499840"/>
              <a:ext cx="4622040" cy="1329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Gestão de veícul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Telecomunicações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lojamento/bem-esta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4521600" y="4141800"/>
              <a:ext cx="4622040" cy="17474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valiação no terreno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Supervisão do movimento de abastecimentos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valiação de impacto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3764160" y="1483920"/>
              <a:ext cx="757440" cy="390600"/>
            </a:xfrm>
            <a:prstGeom prst="rightArrow">
              <a:avLst>
                <a:gd name="adj1" fmla="val 50000"/>
                <a:gd name="adj2" fmla="val 5332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2"/>
            <p:cNvSpPr/>
            <p:nvPr/>
          </p:nvSpPr>
          <p:spPr>
            <a:xfrm>
              <a:off x="3764160" y="2968920"/>
              <a:ext cx="757440" cy="390960"/>
            </a:xfrm>
            <a:prstGeom prst="rightArrow">
              <a:avLst>
                <a:gd name="adj1" fmla="val 50000"/>
                <a:gd name="adj2" fmla="val 48435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3"/>
            <p:cNvSpPr/>
            <p:nvPr/>
          </p:nvSpPr>
          <p:spPr>
            <a:xfrm>
              <a:off x="3764160" y="4767480"/>
              <a:ext cx="757440" cy="326880"/>
            </a:xfrm>
            <a:prstGeom prst="rightArrow">
              <a:avLst>
                <a:gd name="adj1" fmla="val 50000"/>
                <a:gd name="adj2" fmla="val 60644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1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101520">
            <a:solidFill>
              <a:srgbClr val="651d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213336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bem sucedida das operações, prevenção e controlo da epidemia através da mobilização de recursos por parte do Grupo de Acção/Comissão Nacional do Ébol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0" y="17586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Fornecimento de apoio às operações no terr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49040" y="162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:\PICTURES\EBOLA DRC 2007\receiving and dispatching ppe.jpg"/>
          <p:cNvPicPr/>
          <p:nvPr/>
        </p:nvPicPr>
        <p:blipFill>
          <a:blip r:embed="rId1"/>
          <a:stretch/>
        </p:blipFill>
        <p:spPr>
          <a:xfrm>
            <a:off x="133200" y="2562120"/>
            <a:ext cx="4040280" cy="303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L1040346 (Small)"/>
          <p:cNvPicPr/>
          <p:nvPr/>
        </p:nvPicPr>
        <p:blipFill>
          <a:blip r:embed="rId2"/>
          <a:stretch/>
        </p:blipFill>
        <p:spPr>
          <a:xfrm>
            <a:off x="4305240" y="2954160"/>
            <a:ext cx="43498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63080" y="1271160"/>
            <a:ext cx="8828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servas adequadas de materiais necessários às investigações epidemiológicas a nível subnacional e nac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EPP, módulos A e B do catálogo da 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rodutos de desinfecção e outros materiais para se colocar em prática as medidas básicas de combate à infec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recolha de amostras e materiais de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Reagentes laborato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Equipamento médico e medica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onte fiável de reabastecimento de materia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Gestão e sistema de distribuição de reservas eficaz a todos os níve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ocedimentos de alfândega simplificados para uma rápida autorização de import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30320" y="1196640"/>
            <a:ext cx="90136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riação de escritórios funcionais para actividades do pessoal e reuniões das comissõ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ustentabilidade das operações, por exemplo, pequenas aquisições, pagamento de subsídios diários e alimen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quipamento de escritório (computadores, impressoras, fotocopiadoras)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ornecer meios de comunicação – telemóveis,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Reabastecimento dos produtos necessários / encomendar recursos a temp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6200" y="223560"/>
            <a:ext cx="8229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ansporte para as equipas de proxim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chindedzak\Desktop\Ebola July 2014 documents_YZ\SLE EBOLA RESPONSE PHOTO LIBRARY\4   WHO mobile laboratory equipment being loaded to support ebola case confirmation in Kailahun District in eastern Sierra Leone.jpg"/>
          <p:cNvPicPr/>
          <p:nvPr/>
        </p:nvPicPr>
        <p:blipFill>
          <a:blip r:embed="rId1"/>
          <a:stretch/>
        </p:blipFill>
        <p:spPr>
          <a:xfrm>
            <a:off x="-41400" y="1557360"/>
            <a:ext cx="4537080" cy="410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chindedzak\Desktop\Ebola July 2014 documents_YZ\SLE EBOLA RESPONSE PHOTO LIBRARY\5   A team of WHO laboratory sciientists crossing from Guinea into Sierra Leone to set up a mobile lab in Kailahun District to test Ebola cases.jpg"/>
          <p:cNvPicPr/>
          <p:nvPr/>
        </p:nvPicPr>
        <p:blipFill>
          <a:blip r:embed="rId2"/>
          <a:stretch/>
        </p:blipFill>
        <p:spPr>
          <a:xfrm>
            <a:off x="4648320" y="1628640"/>
            <a:ext cx="4495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63080" y="1197000"/>
            <a:ext cx="8812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Transporte e movimentação de pess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Gestão de veículos e meios de transporte para as necessidades das actividades de controlo das equipa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dos movimentos das equipas móvei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laboração e aplicação de mapas de serviço regulares para o pessoal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e facilitação de deslocações para o pessoal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0600" y="274320"/>
            <a:ext cx="8454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60" y="1125360"/>
            <a:ext cx="90248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poio para os programas e abastec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e transporte do EPP (batas, máscaras, óculos, botas e outro equipament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de equipamento de desinfecção às equipas de controlo da infecção e ao pessoal responsável pelos funerais segu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acilitar a gestão de resíduos biomédicos e das áreas de isolamento em coordenação com a subcomissão para a gestão dos ca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dministração, segurança e prot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pendendo das circunstâncias, atender às necessidades alimentares dos doentes e das equipas de interven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a segurança dos espaços e a participação do pessoal nas actividades de control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as instruções de segurança ao pessoal antes que estes cheguem a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empre que necessário, formar o pessoal sobre as bases da logíst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706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5840" y="1125000"/>
            <a:ext cx="892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inanciamento inadequado para os abastecimentos e logística necessár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ordenação e colaboração do apoio dos parceiros, incluindo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evisão e aquisição de quantidades óptimas de abastecimentos e logística devido à elevada procura act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Isolamento dos países com surtos de EVD por parte de algumas empresas está a afectar a disponibilidade de abasteciment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ferentes conceitos, qualidade e padrões de EPP para a EV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da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8920" y="981000"/>
            <a:ext cx="8877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especialistas em logística com formação adequ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otação elevada de pessoal devido ao medo, pânico e exaust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stribuição tardia das equipas operacionais em novas frentes do sur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mbiente sociopolí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Transporte e instalações de comunicação pouco adequ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pessoal para as equipas de enterros, especialmente devido a compensações pouco adequadas para o risco e estigma associ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cesso a algumas áreas não é fác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(cont….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339920"/>
            <a:ext cx="8686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issão de coordenação acerca d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finir as actividades da comissão de coordenação a nível do distrito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para o Grupo de Acção/Comissão Nacional do Ébo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São propostas as seguintes medidas tendo em conta as considerações específicas ao país e comunida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mpromisso da liderança política e social e dos parceiros em criar um ambiente propício à mobilização de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ssegurar e monitorizar a segurança das equipas no terreno e do equipamento sempre que adequ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forçar a capacidade logística nacional (cadeia de abastecimento nacional, formações), assegurar o compromisso dos parceiros com base nas suas vantagens comparati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ossíveis soluçõ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logística deve ser o primeiro componente a ser devidamente abordado na preparação para qualquer emergência, incluindo surtos de EV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533520" y="1143000"/>
            <a:ext cx="81532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cerias n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164040" y="6213600"/>
            <a:ext cx="3525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010280" y="2441520"/>
            <a:ext cx="137664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1878120" y="2676600"/>
            <a:ext cx="2573280" cy="129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4856040" y="2676600"/>
            <a:ext cx="1868760" cy="1452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tretch/>
        </p:blipFill>
        <p:spPr>
          <a:xfrm>
            <a:off x="466560" y="2514600"/>
            <a:ext cx="1256040" cy="2068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2700360" y="4129200"/>
            <a:ext cx="16765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"/>
              </a:rPr>
              <a:t>MS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5396040" y="4721400"/>
            <a:ext cx="2655720" cy="947160"/>
          </a:xfrm>
          <a:prstGeom prst="rect">
            <a:avLst/>
          </a:prstGeom>
          <a:solidFill>
            <a:srgbClr val="f1f9f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70c0"/>
                </a:solidFill>
                <a:latin typeface="Arial"/>
              </a:rPr>
              <a:t>Instituto 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609480" y="4648320"/>
            <a:ext cx="1676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Arial"/>
              </a:rPr>
              <a:t>IF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D:\userprofiles\gaturukup\My Documents\Old HDD documents 14 March 2012\Desktop Documents\WHO LOGO NEW\WHO-AFRO-EN-C.jpg"/>
          <p:cNvPicPr/>
          <p:nvPr/>
        </p:nvPicPr>
        <p:blipFill>
          <a:blip r:embed="rId5"/>
          <a:stretch/>
        </p:blipFill>
        <p:spPr>
          <a:xfrm>
            <a:off x="2471760" y="5172120"/>
            <a:ext cx="22827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técnica e científica internacional para coordenar as medidas de controlo da epidemia que será responsável pela organização das actividades diárias da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-10044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de Coordenação Nacional (Grupo de Acção Nacional): Compos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539640" y="1268280"/>
            <a:ext cx="83743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finir o orçamento operacional para as actividades (comunicação, vigilância reforçada, investigação, etc.), para a detecção pré-epidémica e para a resposta preliminar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as fontes de financiamento, incluindo a alocação de recursos domésticos e criação e conhecimento de mecanismos para obter recursos adicionais sempre que necessári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envolver modelos para a mobilização de recursos e para a notificação dos países e dos doadores, incluindo mecanismos para monitorizar e seguir a implementaçã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stabelecer fundos de contingência facilmente acessíveis para uma resposta imediata a um surto de EVD a nível nacional e noutros locais apropriados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o processo de transferência de dinheiro do nível central para uma utilização de emergência loc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0:50Z</dcterms:modified>
  <cp:revision>198</cp:revision>
  <dc:subject/>
  <dc:title>DPC Training and Technical Update</dc:title>
</cp:coreProperties>
</file>